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9CB-C4D1-4741-8C7E-A442F111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E6F-5B6E-4834-9AE4-42D6CF18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DC3-89B5-4149-97B3-20B7DC14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A13-1DD9-425F-AABA-294085F2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5CA-034F-44BC-B4BE-53CCC78D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AE0-F634-400E-AC8F-77A6F15B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249-6BEE-4215-86BC-97BA498F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235-35D9-4AFD-AB6A-B6C215CA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74C-12F8-43DA-BF57-AC08F9EA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71E-2D02-43C1-82E5-6AA11FE0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BE5-28A6-4B58-AF00-D0832552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2BA-D407-4249-8562-06235745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507B-468F-483E-A5BB-1C331B915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Bright"/>
              </a:rPr>
              <a:t>High-Frequency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Bright"/>
              </a:rPr>
              <a:t>Second 100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it bac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went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 to the poi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we sh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the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your b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 o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found it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y and lear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d of 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ll your n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a lit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od Ameri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 your cloth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it ag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of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it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the ph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n the pag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ir is w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my lett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still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only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n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need mo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udy in scho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an Americ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h a m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 it ou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a small wor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and sm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 sweet 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ound the c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w and t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must be r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the tru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and plen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me ou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turned out we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your p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think s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years 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the bo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 the ri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ve and pl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ood 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st of the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best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the s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ast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very g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k before you 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her says to n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new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yo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hel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ork too muc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old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 the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her means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e time tomo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the tru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ttle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great 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llowing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came ho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ant to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w us arou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 two li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mall house al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old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one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it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t it t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a lit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es it e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don’t feel we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me is larg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turned out we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the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must be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 it o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h a big h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n asked for hel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1:25:00Z</dcterms:created>
  <dc:creator>Rob Hall</dc:creator>
  <dc:description/>
  <dc:language>en-US</dc:language>
  <cp:lastModifiedBy>test2</cp:lastModifiedBy>
  <dcterms:modified xsi:type="dcterms:W3CDTF">2008-01-30T17:03:39Z</dcterms:modified>
  <cp:revision>3</cp:revision>
  <dc:subject/>
  <dc:title>High-Frequency Phrases</dc:title>
</cp:coreProperties>
</file>